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1D8-FF95-4A5D-AE5D-6652C28C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134-5E8B-4C09-80D6-B76216B9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284D7-83A1-4E70-94F5-AF5FF75D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9B183-CEE1-446F-9649-1AB5BB47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A8E09-2F75-417D-AC8C-8C884658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7AE09-E90D-4A8D-A1F6-483FD76F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70FBF-C780-4F67-AEEF-09AECF6E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DDC7F-86ED-4005-BAD5-39963C8F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0B258-6808-43FE-9BED-3E16E637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5D607-124E-4043-A804-20644DD0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9A05F-238E-4120-A7D4-F801C145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86584-9160-44CD-B07E-6EC10A7D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873-574F-4C11-B450-00EAD931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3CE2A-6D1A-4242-BC87-F39BC4CD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399C3-8D3A-433C-BCFA-072B23AA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54E3D-5062-4287-9DEC-ED929F11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AEDC5-8E7F-4A21-BC0C-3E9BFF9B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A85DB-3B32-4DEA-87A5-99B93B2E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AAAF1-C74D-4101-9129-2F5B57A2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2690D-6B2A-404D-9941-8EFBC6CC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8B4FD-CCAE-45C8-A04A-937FA38D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9E6D5-02F3-47A8-AFDB-5C0B108F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58CBD-3644-41A3-801C-53D0BC74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B8A-C00D-497C-9D67-3F1565C9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0D88E-3EDA-453A-B95D-51FBAA32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6855E-7D19-4381-AA73-BFF12B09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76B70-4838-4B4E-A831-52448587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64B48-4BFB-4F11-AE2F-2D5DA2B3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E006B-DA48-45F2-8162-978550CE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CC9E3-3AD8-4AE0-8129-E2D9136B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F675D-368A-4136-9236-B157ED57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C2478-0945-45AA-8A3C-F708172C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F53FA-9AE1-4594-8623-369399D7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2B9C6-D24F-46F9-8FAD-9CD24ADC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5BB8-3B3A-4D31-A221-F5BC8E5C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72204-B81A-43C7-BEF9-BB043ED6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B95D6-5360-4F6C-ABFD-AF6ED2AA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24008-F417-4E15-8D3C-2FE5CA04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DBDE1-4C36-48D4-BFCD-9713E66D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5BDFB-CE8C-4632-8B06-66075290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0FE37-2291-4AAF-A7C4-B42EF21E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9E01F-E436-4D51-94B3-B469E949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4DB13-E373-4644-A9FB-C1872993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83B22-7649-4714-AA48-565C7490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4CDB0-0D23-45FD-824C-487D15E2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6C6D-59BE-40D9-9119-755CFDA5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165EB-0D90-470F-913F-DE16480B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9AF50-6B2E-45CE-9681-BDB94508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36F54-E998-45AC-88A7-D0E5D048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2D00D-6DC5-4BF5-BB9B-7772585A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FC993-BA96-4D3B-A00F-5A5CB2E4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97F3E-4D5F-41FF-B4F9-EE0351F9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66A65-ACE8-45F3-A171-34760EF5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D5AEC-2040-495E-8130-54E8BC4A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1F176-1A27-48C6-89B0-111CFCF1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8F1D0-5832-43AF-BE41-C92B2219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5C64-ED41-4476-BDE1-98EDE34D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D1A10-0F8F-4AD5-935F-16667A0A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D4B20-F257-4762-9026-069F21A9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84FA6-5E05-4D5D-9FB3-EC194CC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C9B4B-6631-49E1-A9E4-FA8B6398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1ACE9-E963-4B92-AF4D-9459D906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29A7A-3E2B-465C-97C8-6EB7733E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4E0E1-49BF-4974-87EB-E996F2C1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A055B-9C2E-4C30-8464-43C17C9F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843D8-2E11-4BC0-93D9-A9772A0F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D711A-79E0-4ABC-87F0-E0D39B64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09ED-C5D5-462C-9BFE-5D872072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CC97D-D76F-4D06-951A-305F03AC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2E09B-01CC-434C-A500-FE5F0F9C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58FE5-53CD-4F3D-859F-C42C944B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2EA44-7E74-40BA-B1C6-FA99C96F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F6B9D-12BC-4A7B-A516-E726D9E3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59D94-0799-4CFE-AFD6-1374373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0A554-AC93-43AE-89D9-2F89EDC7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BDA6C-B394-4BDD-975C-20CAB4CE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76537-6335-4594-846D-A90CAB8C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042BB-2DEA-4DC9-A233-522685CA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7528-47D1-46A8-BBBA-A54EBE4B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EB6BC-2E57-4832-AED4-F2979FF3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47C7E-36DF-4A95-B097-388241B8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C5006-5A5F-4CD7-9736-9F3E7B1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9C57D-B0C5-464B-A413-2BAD2163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26911-2DFD-4B18-AD22-0F6EBC3A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765BA-AD42-4E53-8840-7A330F03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50CC2-8E84-423F-896E-37DAFDDB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24C27-C193-4EFD-9A32-28A0C25C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11F08-BD62-44E9-A865-0950A34B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BBE63-1AC0-4B7E-82E0-54588107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6EC6-530E-4869-94AA-1373B619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ABCDD-A3B4-4190-88BD-EDFD3A80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BF9A9-7859-4DB8-BB71-CECE7618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912DC-7BAF-4042-803C-22598BBE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66562-265C-435E-AA90-FDAE19F7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B9878-480A-4015-8A79-0F1A058D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7C688-988D-43EE-8317-C9D532F1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96FB46-B321-4AAE-BC20-87BFF3E9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DDCD1-FDCE-4B4B-8060-A7B9D20E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54C42C-5229-4B81-B9E8-546C4C5E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D66C0-507B-4DE1-9B9C-B07B8C7F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5DAA-EDD0-4DF5-984D-9CD44259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54CCC-640B-4251-BA65-9DB75A84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475DB-B164-4DC5-B4A4-CE1DB59A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9A9E3-A5B1-4042-A67B-A5A3C851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37D20-1CDD-4A60-A597-11B3240A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CE715-2424-4835-ACFA-FF5BE278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C7BCA-C64B-4A3A-9C58-8271D2D3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7BF0D-17C9-47D8-9780-0215BADD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C7278-C2E2-42C7-A497-5D6EA775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7D87F7-3A8E-48FD-ABD0-67A4C3B9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BB1C9-9B85-4C92-BE7E-C2742414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A34-C3A2-421C-A843-62E01218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7F6F-E70D-4D8B-8305-8D25426B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C3186E-4D11-4B5A-A0AD-B402FE5A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90828-BD50-474F-A4A1-C934E5C4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77501-96BE-40D1-A48D-A6862F5F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20F59-BB96-487A-AE14-E13A8FF3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485D2F-9FB1-4D36-AC7E-BF2C6D64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8EA11-5FBB-45D5-B204-F904A822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42607-32DE-4E73-B53F-B34FA512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4F108-E9C6-4A29-A933-1F73BBAD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9BE96-3D88-442F-AA58-A21FF9D5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6E3073-BF7C-4600-89D9-88643DAC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5AF9-386A-4D24-8045-56F2802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F1C32F-3A88-4D79-92D8-00E522C1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2B694-CCC0-4094-A619-01A32A02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97F20-E76A-4C4C-B643-77267604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A81E1-3DBE-4364-A19E-027C9D54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2C8FA-DE99-4170-83B1-05B7CAA0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AF106-9AAC-4BCA-9603-35DCC35F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49290-F122-456E-B6AF-12283D4A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EFA9B-A4BE-4BD5-B327-52C2806B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DBC50-9CF0-4E38-A05E-2F9B03A8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7C6B4B-4E80-44C2-A068-1DAAF582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98D8-A90A-41B3-8131-53B057A3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5483C-F8CB-4A02-B0AE-FE32CDE0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57E53-AFE0-48A8-AD55-344AF43A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0D2EC6-634B-4988-A5CE-EDDA301C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CB567-033A-45C1-AD33-503BD28A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58FEE0-472B-47F4-AD76-880E8511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75254A-695D-44F6-B6D1-77F7A808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FB237E-DBFA-48E3-A675-C72DC664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A50AE-95E3-406B-8438-E4AFAD25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5A368F-3DE4-4982-81ED-F7500C15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DF265-E5F7-4696-8C3A-611ADD06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3E0-C642-4D41-9922-FD8066AF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6AAD1-9F0B-43BB-AE39-E524C037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9BCD4-C5DC-41B7-A53C-AFCC4398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279239-52A1-4536-9965-E3A8B569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744873-2B5E-4507-B49C-C2E5B887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8A1A20-EC25-4493-AE0C-31D6269C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00C33-07B9-45DA-B378-AB4BD270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BD207-85A2-4C8E-94ED-C57040B6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BDBB46-2EDA-4844-A843-D87B55E3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EC1023-AE16-4E90-963D-9A734CFA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32F07-7B18-4E46-8EB5-66A19902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5B98-7ACF-420B-887B-5F85945A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8B1FB0-6899-48B0-B930-656A2C23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A15E04-9265-42D5-B107-1A711BE3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1FB7EE-97A4-41B2-A731-638168ED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DA023-3A86-4F47-A6ED-326B851C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0119FA-181B-45C1-8259-1611110E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C5C2B-524E-4AA7-AF2E-DB518125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AC627-0F58-4CAC-A8AB-D4F1A5C3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F8CEF6-8D23-4FD6-88E0-09E8592A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E4A31-8061-4E0B-A025-B258F38B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72031C-940A-4CEC-A6A9-768195D4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D5AF5-96CD-4624-9FAC-B0B4918C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9EC2A1-B6BD-4CAF-ACE6-4ED74346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69DA6A-CE5A-4AB4-8476-5E8BA64F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462-29DC-46DE-AE14-5A14BF4F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8BA3-43CC-40BC-9F05-7B44C900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995A-CE7E-462E-A7FF-2A59BBBE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2AB4-DF4B-4947-8946-5D32043F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3E7-AEE6-4521-B676-A2866374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F873-BAE1-4762-B040-2AB628E4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D31A-D3FA-403E-BB6F-FA7A5764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2CDE-7917-401E-BE37-2B958C1F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E56D-74CE-431C-B1BF-190D943B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7CD0-DE85-415A-B802-1744F65F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18813-D79B-4B58-B035-91F5291E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097C-F582-4DF0-88AA-6740DE7A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2EDE0-686A-4C19-A2C3-C9E2C961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BA99-4E05-4CEC-9496-F2938BE8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0B589-855B-4A1C-ACAE-C2059C38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44C-3AC3-44EA-8C36-96460C4F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BFB2-EA2E-498A-A142-F006D392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F1D9-81A4-46D5-8B2D-0F5B536C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7CF8E-84CD-46B5-9281-DE157790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0DA2E-B28E-4579-98B5-B1A0AB70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DD5B-070A-4052-8015-D18AE499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B721A-A1DA-4831-94B6-18CF051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52C85-E0E1-437D-9411-4C9E6637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E5DA-CB0A-4B4B-A1CA-99F6258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940C-A36E-4F2B-8BE9-E65709BF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E320-6406-4DEE-B35C-5A547051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0A1-B88B-4054-99DD-D032308A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E0CB3-B765-4E50-923E-40F53202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457A2-B963-41E2-B440-EA6701E1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43B31-0DDD-4FF1-A847-3681A72E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8829-74D6-41DB-B74C-A844E242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73418-1926-4C92-AA8D-158D5E57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7573B-C6B7-403D-BF7F-589F9CED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728CD-43A5-4093-9E81-42145229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9BB1-C271-4CA9-8832-6CA26A58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D02F4-121C-49F8-B752-D3000283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55764-D187-4165-93D6-D83BC44A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E8F-B96A-4EAF-B387-2A5F6AC7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BDF9B-5373-4A68-90EC-7C318233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E169-B98D-46EC-9E6A-D142BE00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8D789-1E6B-4F13-8801-3C2593DE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05E79-5089-4BB0-B6C4-45D2843D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9EB2C-7A3F-4E4B-9C26-560FB2E0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DB3DF-AF09-48AC-90DD-F400F2E1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D71F-3E2A-4570-8CC7-99BAB64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7BCFB-1333-4665-81F4-9291224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28B8F-996F-4CC1-9C83-96508618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DC95-39D6-43CA-A7E3-211D7566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143-BA53-4433-B08F-33F8686F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CDCF9-69B0-44CD-96DF-7F03F19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754EB-B1B9-4BA3-B759-5588E22F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590CC-7EDF-431F-9CE5-9A147F4D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697F0-02AC-4EE1-A98A-EA5FAEBB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6D221-D1CE-49AB-ADDD-78C7117E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1131A-063F-4448-BC23-F091DAC7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81B16-BA52-4040-97F6-524ED0DB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9088F-4EFF-4E70-92F0-162B26C6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54F5C-5C0D-4D37-B22D-4D4B978E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47180-5EC3-4CA0-92A4-0CB45230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C96-E4B7-4EDD-ACFB-17F7ADB7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1F572-61B2-4121-BE9C-EC3303CA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6113E-212D-408D-8674-4910B2B0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4F2B5-3F2E-4130-A454-C9724E8A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6AB89-1A13-4306-9634-F4B0CADD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6E645-D5B4-4AB6-90E1-4943E375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3E3A4-43B2-4698-8F91-D6F01223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2566-9C40-45FD-8FB4-A229AB63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D5C9C-42E8-486B-A0AC-D94F0C2B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B7B89-8FFB-45F7-8F2B-C94411D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FC0D4-BCCB-4C4C-8832-D594BC03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35A8-D9A1-4899-9F57-7ECC7A8E66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F9CA-F5E8-4673-A95F-45E69ADBE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74F1-97C9-45BB-BF4B-B3B5E5452E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6206-FF27-496F-A1F9-877D66CE3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25E9-7BD0-428C-A59A-19319A5C86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A151-A9C5-42A5-9674-854EEC395A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25DD-71AC-4373-B309-4C09757FFC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6D2C-8A00-4075-A1C7-BAB4329D5D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6D5C-2A7B-4F4F-9FBD-FFA439F28A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7BB3-5E23-4BCF-8306-52FD43F4E0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AFFE-04ED-4D5F-8421-E0B83EEC6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4524-DC9A-42C1-AFC8-6A9E31D35B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A533-311C-4997-BD42-F9DED40E0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FCC4-E836-49A4-87F4-0B41E6E12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3394-B829-470B-9708-E5F7B2284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D62E-79EB-4503-A4EF-3BA5C88AF9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C0C3-8DC5-400C-B0DC-5EBA2F1B9D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D626-92E9-407E-A1B1-FE03279739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FA26-1E8C-4E4C-848C-20075719D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CBED-E0A9-4023-AFB5-5B14AA37F4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EC95-7F24-4A06-A1AA-5212C9B5BF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DFE7-20B9-4734-9B8B-2711D6ADD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BEA1-2878-434A-911A-A214AC6F55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15A3-5300-4EFC-95FA-BDB3896100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7A10-5A17-40BA-A607-F051043C6A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FE3A-70FF-412F-BAD1-91AC917806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0D3B-99D1-4D38-899D-F4E819CFAD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02C0-BCAB-4B09-80D7-3D20B7A2AD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DC50-53AB-410F-AC82-0F8A53B8A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AC86-25B4-4C7F-872E-E4B3AD6E71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E8D7-2FDD-4A42-AFFD-A9E67F116E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7CC7-4C08-41D0-8AEC-FF600632B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C451-66C9-44FB-9029-968C343544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1493-BD12-4712-9DC1-35DE3A314B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E40B-60A1-47D3-9489-BB1C40AA06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0AB4-62FE-41E5-945A-A8CCC5B1D5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672B-E5EB-42ED-AC80-E45C72F74A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B052-C309-46A8-9D3F-A13CDDC324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A187-70DE-4FFB-B601-C32A07F9E6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652840" y="2189160"/>
            <a:ext cx="3503520" cy="80820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250920" y="3664080"/>
            <a:ext cx="85629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3313" descr=""/>
          <p:cNvPicPr/>
          <p:nvPr/>
        </p:nvPicPr>
        <p:blipFill>
          <a:blip r:embed="rId1"/>
          <a:stretch/>
        </p:blipFill>
        <p:spPr>
          <a:xfrm>
            <a:off x="147600" y="942840"/>
            <a:ext cx="8848800" cy="49723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25780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1258920" y="3551400"/>
            <a:ext cx="525780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1116000" y="5361120"/>
            <a:ext cx="52578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4337" descr=""/>
          <p:cNvPicPr/>
          <p:nvPr/>
        </p:nvPicPr>
        <p:blipFill>
          <a:blip r:embed="rId1"/>
          <a:stretch/>
        </p:blipFill>
        <p:spPr>
          <a:xfrm>
            <a:off x="228600" y="1514520"/>
            <a:ext cx="86868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9" name="图片 15361" descr=""/>
          <p:cNvPicPr/>
          <p:nvPr/>
        </p:nvPicPr>
        <p:blipFill>
          <a:blip r:embed="rId1"/>
          <a:stretch/>
        </p:blipFill>
        <p:spPr>
          <a:xfrm>
            <a:off x="485640" y="1324080"/>
            <a:ext cx="8172720" cy="42098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4"/>
          <a:stretch/>
        </p:blipFill>
        <p:spPr>
          <a:xfrm>
            <a:off x="971640" y="378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5"/>
          <a:stretch/>
        </p:blipFill>
        <p:spPr>
          <a:xfrm>
            <a:off x="900000" y="4365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6"/>
          <a:stretch/>
        </p:blipFill>
        <p:spPr>
          <a:xfrm>
            <a:off x="887400" y="49672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5" name="组合 22531"/>
          <p:cNvGrpSpPr/>
          <p:nvPr/>
        </p:nvGrpSpPr>
        <p:grpSpPr>
          <a:xfrm>
            <a:off x="330120" y="214200"/>
            <a:ext cx="5845320" cy="6566040"/>
            <a:chOff x="330120" y="214200"/>
            <a:chExt cx="5845320" cy="6566040"/>
          </a:xfrm>
        </p:grpSpPr>
        <p:pic>
          <p:nvPicPr>
            <p:cNvPr id="1026" name="图片 22529" descr=""/>
            <p:cNvPicPr/>
            <p:nvPr/>
          </p:nvPicPr>
          <p:blipFill>
            <a:blip r:embed="rId1"/>
            <a:stretch/>
          </p:blipFill>
          <p:spPr>
            <a:xfrm>
              <a:off x="755640" y="560520"/>
              <a:ext cx="5419800" cy="62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图片 22530" descr=""/>
            <p:cNvPicPr/>
            <p:nvPr/>
          </p:nvPicPr>
          <p:blipFill>
            <a:blip r:embed="rId2"/>
            <a:stretch/>
          </p:blipFill>
          <p:spPr>
            <a:xfrm>
              <a:off x="330120" y="214200"/>
              <a:ext cx="445788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8" name="直接连接符 22532"/>
          <p:cNvSpPr/>
          <p:nvPr/>
        </p:nvSpPr>
        <p:spPr>
          <a:xfrm>
            <a:off x="4356000" y="1125360"/>
            <a:ext cx="720720" cy="2303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22533"/>
          <p:cNvSpPr/>
          <p:nvPr/>
        </p:nvSpPr>
        <p:spPr>
          <a:xfrm flipV="1">
            <a:off x="4029120" y="1196640"/>
            <a:ext cx="1047600" cy="1152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22534"/>
          <p:cNvSpPr/>
          <p:nvPr/>
        </p:nvSpPr>
        <p:spPr>
          <a:xfrm>
            <a:off x="3957480" y="3645000"/>
            <a:ext cx="1152720" cy="1008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22535"/>
          <p:cNvSpPr/>
          <p:nvPr/>
        </p:nvSpPr>
        <p:spPr>
          <a:xfrm>
            <a:off x="3924360" y="4724280"/>
            <a:ext cx="1152360" cy="1441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22536"/>
          <p:cNvSpPr/>
          <p:nvPr/>
        </p:nvSpPr>
        <p:spPr>
          <a:xfrm flipH="1">
            <a:off x="4284360" y="2421000"/>
            <a:ext cx="863640" cy="3744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21505" descr=""/>
          <p:cNvPicPr/>
          <p:nvPr/>
        </p:nvPicPr>
        <p:blipFill>
          <a:blip r:embed="rId1"/>
          <a:stretch/>
        </p:blipFill>
        <p:spPr>
          <a:xfrm>
            <a:off x="690480" y="938160"/>
            <a:ext cx="7763040" cy="49816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835280" y="328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835280" y="4797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20481" descr=""/>
          <p:cNvPicPr/>
          <p:nvPr/>
        </p:nvPicPr>
        <p:blipFill>
          <a:blip r:embed="rId1"/>
          <a:stretch/>
        </p:blipFill>
        <p:spPr>
          <a:xfrm>
            <a:off x="733320" y="2043000"/>
            <a:ext cx="7677360" cy="27720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116000" y="3573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8193" descr=""/>
          <p:cNvPicPr/>
          <p:nvPr/>
        </p:nvPicPr>
        <p:blipFill>
          <a:blip r:embed="rId1"/>
          <a:stretch/>
        </p:blipFill>
        <p:spPr>
          <a:xfrm>
            <a:off x="571680" y="895320"/>
            <a:ext cx="8001000" cy="5067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4775040" y="2530440"/>
            <a:ext cx="216072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6346800" y="3971880"/>
            <a:ext cx="174168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5025960" y="5386320"/>
            <a:ext cx="14781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9217" descr=""/>
          <p:cNvPicPr/>
          <p:nvPr/>
        </p:nvPicPr>
        <p:blipFill>
          <a:blip r:embed="rId1"/>
          <a:stretch/>
        </p:blipFill>
        <p:spPr>
          <a:xfrm>
            <a:off x="914400" y="2809800"/>
            <a:ext cx="7315200" cy="1238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4272120" y="3525840"/>
            <a:ext cx="21715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0241" descr=""/>
          <p:cNvPicPr/>
          <p:nvPr/>
        </p:nvPicPr>
        <p:blipFill>
          <a:blip r:embed="rId1"/>
          <a:stretch/>
        </p:blipFill>
        <p:spPr>
          <a:xfrm>
            <a:off x="81000" y="961920"/>
            <a:ext cx="8982000" cy="49341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1233360" y="1773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1187280" y="36320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2289" descr=""/>
          <p:cNvPicPr/>
          <p:nvPr/>
        </p:nvPicPr>
        <p:blipFill>
          <a:blip r:embed="rId1"/>
          <a:stretch/>
        </p:blipFill>
        <p:spPr>
          <a:xfrm>
            <a:off x="461880" y="1371600"/>
            <a:ext cx="8220240" cy="41148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1265" descr=""/>
          <p:cNvPicPr/>
          <p:nvPr/>
        </p:nvPicPr>
        <p:blipFill>
          <a:blip r:embed="rId1"/>
          <a:stretch/>
        </p:blipFill>
        <p:spPr>
          <a:xfrm>
            <a:off x="676440" y="2276640"/>
            <a:ext cx="7791120" cy="23047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50472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7:0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